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C534-8F20-4796-9884-BC35F98777B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2FB9-92DC-4B05-8B71-0F263202E6D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895-841B-4C1D-BF69-8F12B085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9B7-BCAC-4089-8B81-EE69AEB6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055-8600-4AC0-8D82-53E50396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957-2B61-482C-96F4-1A93EEBE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6473-C886-4D0E-8888-AEFE9526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02AE-7CAB-4BE7-A272-F4F09E20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6F15-51C7-4536-9EDF-5C7113CD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1CC8-BC1E-4540-9F15-D1148C90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5B70-2CEB-4A4A-9F66-CA3A16CD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6C3F-0578-474C-B2CD-C4F0ACC2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8885-B4E7-4A7C-836C-B932563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5A6-A280-4BF6-B9EF-ED511567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232B-B522-458D-B9E7-B840EF9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6E5C-155A-4F33-A58C-5D586808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1BD4-DB91-473B-B631-01F2076E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8242-EA86-4FA8-8159-4AE1480F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C5E7-6255-4385-BFD1-DE9BD1BC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1021-0E3A-4822-99CE-FD1130F0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7846-2411-44D9-ADCC-1BE35478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4A967-4D3F-43FD-9592-51A50F80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2CC2-EC7D-4038-BD85-3ADA0775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3D0C-FBE3-42AF-991E-4FB2565B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2E5-2733-4B84-8D39-65E62086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39CC-DE93-43B3-9E71-BC1A2D55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14ED-2428-4B96-B345-F4985B7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9C235-C90B-4AA5-A365-3923430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674B-82B4-4A63-B175-3721B02B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E2D0-4C22-4696-BA4D-A2F5C374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B3C9A-F461-4E86-AA7A-2D4661FB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C93F-B8F3-49AB-B2E5-D91B66BF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70EB-90DE-4B53-8DC1-5177B74C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2D34-540B-48FE-887A-49BD7236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57FB-C3A7-4231-81E8-9AE8D3C4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298-90BD-4B2C-83D9-3EC2031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8E568-4935-4E0D-B914-7CC09D6C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966F-A2F1-48F6-8E61-6F2F855B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0D438-CCA7-46AD-86F4-E2F43B50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AE57-EC9A-4CE1-A983-5BA5C74F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B63F-62CE-4298-A235-EF9595E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D0D2A-D1D0-445B-A64F-FADA6F44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90F66-F264-4740-82F5-48E48063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414D-77A7-4AF5-BA06-A19D10EA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C640-42DE-496D-B9E9-FA6E5F28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F8490-E672-4613-8BD5-F82FB08F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6BF-B5F0-4454-B7DB-6624AFE2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82BDF-B008-4290-932F-B3ACCD6A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D2626-7491-460C-B47C-2193ED63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E2C07-1AD1-4CD8-B044-911F7432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FA74C-DDB9-4936-B392-F674ADFD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85A9F-009E-47E2-A521-DC95AE12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81933-AD10-46FF-8CB3-E46C83CA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E106-179F-4749-8626-022A29F8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0382B-ED0D-4BD5-B7FC-03D3A79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886E3-693C-45BA-82FD-04CA9C1F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F1EC1-6C93-4DC8-A5DC-3B5EC555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951-1B4F-44E6-A4F7-974AD55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C264-88A0-4BB9-8E18-B8EDF5B4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D972F-2CCE-4335-9EE3-3DFE0EAF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E1820-36CF-4D8D-A416-8B481E28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BFAF4-ABF5-4ECA-BB40-23AF68E3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9C219-F17C-4A67-9CDD-739D3B17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0BA4C-0833-4FA8-9F74-433D68AB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9DAA-CC3E-42CD-B1F5-5498A2CF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60949-E9E8-4484-9B84-6F5008EC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12054-B89D-4317-A987-C582DD64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E0A54-4A8A-4E71-8F0E-6CE039C0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680-500E-42AB-A6EF-1D955806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F95D4-2E5A-4DE8-BD5C-FD395252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CAE4A-F509-4DC6-9225-06709F99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A0FF6-21BA-474A-A4FC-A206A3D6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B3739-3C3E-4DD9-AE70-A651A0CE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30242-C24B-4555-A3B2-F5A8ACF4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894B1-8BE3-4829-9CC3-FF683191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49A00-4F1A-44F2-BC2D-6090D23F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0E7D2-1277-4D74-B7B8-3174EC8B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20714-B38B-45CD-A9D5-D2149CAD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C067B-D15F-4ED1-8B77-639C2089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E92-14C9-4635-8DB5-A3AEAFFB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88D98-BD64-4771-A6B6-A3495CFA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75929-37C2-4493-AB11-6EF17981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50D57-D353-4C88-808E-4275FFCB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C1637-1CF7-4E77-B629-E7005DCF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2B040-1124-459C-B2E1-361DE3AB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83C-7F83-4C28-AF7D-6ED58FCE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3412-CEB2-4748-A34D-87994AC5A45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0753-CF0F-48E0-A2B2-F38F68E4620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F2F6-8BCF-4AAD-867D-E85CEB2CDA2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A9E-270C-43A5-BBF8-D1E00DD0D08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DB67-0BCB-4ED7-ADA0-493CA6EC76F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2116-3B37-43C2-8DED-8AF0E76F72C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0109-BA9D-4EF8-B4EF-131859D68EB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5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Máxima Entropí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l modelo y realizar estimaciones futuras de la matriz origen-destino utilizando una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lantee el problema de maximización correspondiente a máxima entropía doblemente acotado con restricción de costos y con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suelva y encuentre las ecuaciones para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j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y las ecuaciones de punto fijo que permiten calcular los parámetros A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y B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sta actividad puede ser desarrollada en papel siempre y cuando esté bien ordenado el desarrollo y se anote el los nombres de todos los integrant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futura que resulta de aplicar el método de entropía con matriz a priori desarrollado en la actividad anterior utilizando los datos que se adjunta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los resultados obtenidos en la actividad anterior con los resultados obtenidos en el taller 4 con el método de furness y gravitacional. Realice un análisis e interpretación basado en esta comparación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cuerde que el modelo gravitacional usado en el taller anterior es equivalente al de máxima entropía doblemente acotado con restricción de cos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5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9T15:57:53Z</dcterms:modified>
  <cp:revision>47</cp:revision>
  <dc:subject/>
  <dc:title>Taller I CI43A</dc:title>
</cp:coreProperties>
</file>